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B6F-BDF5-441C-BAF8-5262D122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5EDF-78CD-4321-BBF2-C4B72FF7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BDC-8DF6-4858-B0FA-A7567116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BF9-0076-4CF1-9547-C58B6231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1F6-EEC3-42E5-B466-38775924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D5B-91E0-405F-8F6B-EB0421E3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0BA-F96A-4F55-A690-6852C79D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4708-6E65-4720-845A-5CC3C2CF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8E6-2F0D-4520-B9FD-C25A943C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F34-3678-4693-90E4-A66BE2FA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71B-BCBC-4F37-9AAA-CC9025F4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726-217C-4050-B916-1C012FB3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50F5-54BE-424E-87D1-03B41826A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- The Middle East, India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L.9-10.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e strong and thorough textual evidence to support analysis of what the text says explicitly as well as inferences drawn from th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L.9-10.6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alyze a particular point of view or cultural experience reflected in a work of literature from outside the United States, drawing on a wide reading of world lit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.9-10.9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aw evidence from literary or informational texts to support analysis, reflection, and re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1T19:12:30Z</dcterms:created>
  <dc:creator>shimabukuroka</dc:creator>
  <dc:description/>
  <dc:language>en-US</dc:language>
  <cp:lastModifiedBy>shimabukuroka</cp:lastModifiedBy>
  <dcterms:modified xsi:type="dcterms:W3CDTF">2012-08-21T19:13:57Z</dcterms:modified>
  <cp:revision>3</cp:revision>
  <dc:subject/>
  <dc:title>Unit 1- The Middle East, India, </dc:title>
</cp:coreProperties>
</file>